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7513-5369-42F1-957A-ADEFEC00F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9566-FE74-43E2-A87C-C2B008E16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A98D-F874-4804-B32A-21D2C504C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E273-E7A6-41CB-916A-8B1F1CF39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DD4B-25F7-4540-8C3F-7C9C4595A8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1FB2-E25D-47BB-A9D4-A8088C83D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0100-B09B-43BF-88B0-A1F0B2A0E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0BF8-0809-44C8-B548-5CEADE1F0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901A-007C-48DF-A1A0-4FA51E0F5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0976-D911-4502-9EA5-A39D1BAEF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95A1-88A0-4C32-952B-E95519B02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5A81-ACB9-4079-A5DE-4E820D0BF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8D91-10F2-49E2-B170-343D2C09BC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motionmathgames.com/" TargetMode="External"/><Relationship Id="rId4" Type="http://schemas.openxmlformats.org/officeDocument/2006/relationships/hyperlink" Target="http://www.numberlineapp.com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tweetdeck.com/" TargetMode="External"/><Relationship Id="rId4" Type="http://schemas.openxmlformats.org/officeDocument/2006/relationships/hyperlink" Target="https://twitter.com/davidpetro314" TargetMode="External"/><Relationship Id="rId5" Type="http://schemas.openxmlformats.org/officeDocument/2006/relationships/hyperlink" Target="http://www.delicious.com/davidpetro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5FCE-9510-4227-B430-1E26940F5A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7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457880" cy="3313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raction Ap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ABFD-F465-4432-BA9F-EB8B9145DE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2425680" cy="21844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662760" y="403848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otionmathgames.com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36800" y="350532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umberlineapp.com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hea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some time to think about the next school year.  You may wa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gage in small group discussion around one of the Question Marks or Light Bulbs or any lingering burn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on a resource  related to one of the Light Bul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inue to explore the camp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DACD-BE9A-43B2-806D-6EFFC48A07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avid and Karen Go Camp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(“Novel in an Hour” strategy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52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Main Character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David and K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6F7A-B6C6-4379-9035-343B751C70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ular Callout 4"/>
          <p:cNvSpPr/>
          <p:nvPr/>
        </p:nvSpPr>
        <p:spPr>
          <a:xfrm rot="20326200">
            <a:off x="406080" y="2482560"/>
            <a:ext cx="1272960" cy="923760"/>
          </a:xfrm>
          <a:prstGeom prst="wedgeRoundRectCallout">
            <a:avLst>
              <a:gd name="adj1" fmla="val 49222"/>
              <a:gd name="adj2" fmla="val -229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poiler Aler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828800" y="236232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Plot Summar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 Math Camp is finished and David and Karen decide to go camping for a few days to relax.  Unfortunately, they face a series of challenging and potentially dangerous situations, and it is only their knowledge of fractions that allows them to emerge triumphant and ready for school in the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avid and Karen Go Camp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1 – David and Karen Put Up the 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2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3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4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5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6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7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56C3-676B-4397-90E7-89CA068470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90360"/>
            <a:ext cx="861048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b5ca9"/>
                </a:solidFill>
                <a:latin typeface="Arial"/>
              </a:rPr>
              <a:t>Ch. 1 – David and Karen Put Up the Tent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a beautiful camping spot,” said Karen.  “Let’s put up the tents under this tr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K,” said David, and she opened the bag containing the various pieces of the Coleman Easy-Set-Up Dome 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fter laying out all the pieces on the ground like a set of algebra tiles, Karen and David realized that the instructions were mi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’re not missing,” said David, “they’re in co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BADC-4AF3-4D41-A436-09DFD0B91E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 we break the code?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looks like we have to solve a problem or answer a question, and that will give us the key to the instructions,” said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have a choice of two questions,” said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one should we do?”  asked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AC60-206B-416E-B8BE-B10C4E3BD8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914400" y="2819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.  Solve for 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378240" y="2622600"/>
                <a:ext cx="16509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Box 9"/>
          <p:cNvSpPr/>
          <p:nvPr/>
        </p:nvSpPr>
        <p:spPr>
          <a:xfrm>
            <a:off x="914400" y="3657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.  The fraction       can represent different relationships.   Describe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3197160" y="3460680"/>
                <a:ext cx="3081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uk.  I hate fractions.  Let’s do B.  It looks easier,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ll,” said David, “2/5 could mean a linear measure, as in 2/5 of the distance between 0 and 1 on a number li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2/5 could also mean a part-whole relationship as in 2 out of 5 people,” adde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could also mean a part-part relationship as in the ratio of length to width in a rectangle, 2 cm to 5 cm,” said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FE5E-5CA3-4301-AB80-6CD595674B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304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 sooner had David finished describing the third meaning when the instructions magically decoded themselves and became perfectly cl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fortunately, since they were the instructions to how to set up an above ground swimming pool, they were no help in setting up the 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night fell and it started to rain, David and Karen huddled under the tree, holding the tents over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 hope we don’t get hit by lightning,” said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 least we’d be warm,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57F4-9532-4AFA-8B41-8E03CA52EE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rite Your Chapt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gs to include in your chap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description of a dilemma faced by Karen and 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problem to solve or a question to answer, that is related to fractions, that will allow them to solve their dilem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solution to the problem, or answer to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1603-261C-4A87-9B2C-E2370D14D3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ank You !!!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AF5C-38A1-4E3B-B54B-1539718998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nd consolidate key learnings from th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B585-F112-45B7-9E66-5BF8F53B82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-12 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n’t that fu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take away from the K-4 and Gr.4-8 ro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t on the experience of being the “tour guide” for our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A3BA-09A2-43DC-AB1D-F649E6385E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umber Line - Reload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8374-A162-4236-BF52-904F85C025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33520" y="1371600"/>
            <a:ext cx="8381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ncepts /ideas does this bring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uld this activity be used with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ketchpad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ey Lear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minute and read our Key Lear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ED3C-570F-49A8-BF6E-342F407CEE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(How I Know I’ve Learned…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w take a few minutes to walk around the room, looking at the work, and reading the success criteria on the blue car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5273-4550-4E5C-BAB8-B5B1A69616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ight Bulbs and Puzzle Pie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your learning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ere your Ah-ha moments?  What will you bring to your practice next ye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still puzzling yo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riefly jot down your thoughts on a “Light Bulb” and a “Puzzle Piece” and place them on the Learning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91C8-686C-4853-A0C9-7BAC18909F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 flipH="1">
            <a:off x="7086600" y="2895480"/>
            <a:ext cx="57960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7257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sponse to Light Bulbs and Puzzles Pie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few minutes to walk around the room reading and discussing the “Light Bulbs” and “Puzzles Pieces” with your colleagu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a sticker on any of these that resonat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5B84-CE52-4E8A-9606-1F4AE8C971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witter is my Personal PLC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928B-580C-4547-89EC-B359917607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174840" cy="3174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163800" y="449568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weetdeck.com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161960" y="45720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twitter.com/davidpetro31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2286000" y="5105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delicious.com/davidpetr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6"/>
          <a:srcRect l="0" t="34366" r="0" b="36392"/>
          <a:stretch/>
        </p:blipFill>
        <p:spPr>
          <a:xfrm>
            <a:off x="152280" y="5105520"/>
            <a:ext cx="2184480" cy="47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4T12:29:21Z</dcterms:modified>
  <cp:revision>50</cp:revision>
  <dc:subject/>
  <dc:title>&lt;Title&gt;</dc:title>
</cp:coreProperties>
</file>